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5306-C401-4AC6-8DE8-3206969CE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7EAC-1FD3-4FD3-AFC7-B3FBBBED5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139D-93F4-4789-AE33-E887953E0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A0AA-F28C-4778-9DB4-2B2379716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3C15-2B35-437C-9295-57B034595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C446-4279-49C6-BC79-B2A92EDC0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E940-F3D4-49CC-9DD4-36AC021E0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92D1-B053-4291-A5E9-90B82D5B0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4B49-6E4B-40CD-8C44-76BF66D48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E7AF-B204-4B35-9393-60E804830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941D-F1B3-4A87-AFFC-589B986F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5AAD-F970-4D71-B879-59EB441C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9519D-B558-4199-A2BF-170A331F1E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4854600"/>
            <a:ext cx="7315200" cy="1143000"/>
          </a:xfrm>
          <a:prstGeom prst="rect">
            <a:avLst/>
          </a:prstGeom>
          <a:solidFill>
            <a:srgbClr val="fbff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00200" y="3405240"/>
            <a:ext cx="7315200" cy="1396800"/>
          </a:xfrm>
          <a:prstGeom prst="rect">
            <a:avLst/>
          </a:prstGeom>
          <a:solidFill>
            <a:srgbClr val="ccff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00200" y="609480"/>
            <a:ext cx="7315200" cy="2743200"/>
          </a:xfrm>
          <a:prstGeom prst="rect">
            <a:avLst/>
          </a:prstGeom>
          <a:solidFill>
            <a:srgbClr val="cff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75960" y="-3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GMOD  @  Plant and Animal Genome XV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5400000">
            <a:off x="7948080" y="1760400"/>
            <a:ext cx="15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sh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5400000">
            <a:off x="8316000" y="387468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l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54200" y="595440"/>
            <a:ext cx="6958080" cy="27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l Genomics with Galaxy: Analyze, Publish &amp; Visual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aturday 1:30-2:30pm, California Room, Anton Nekrutenk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R: An easy to use genome annotation pip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aturday, 3:50-6:00pm, California Room, Carson Hol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base Resources at the EBI: Ensembl (including BioMa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unday, 8:15-9:15am, California Room, Bert Overdu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eneric Genome Browser: A Hands on 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unday, 1:30-3:40pm, California Room, Scott Ca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Gramene (including CMap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uesday, 3:50-6:00pm, California Room, Ken Youens-Clar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ative Genomics with GBrowse_sy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ednesday, 10:20am-12:30pm, Pacific Salon 3, Sheldon McKa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857960" y="3406680"/>
            <a:ext cx="680256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OD Project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onday, 12:50-1:10pm, California Room, Dave Clements, Scott Ca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the JBrowse Genome Browser with Large Amounts of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onday, 1:10-1:30pm, California Room, Mitch Skinn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pal: A Construction Toolkit for Online Genomics 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ednesday, 2:30-2:50pm, California Room, Stephen Fickl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5400000">
            <a:off x="8174160" y="523512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25840" y="4835520"/>
            <a:ext cx="420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onday 10-11:30a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858: GBrowse and Next Generation Sequencing Dat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67000" y="5302080"/>
            <a:ext cx="3555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onday 3-4:30p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859: Visualizing and Comparing Genom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861: Comparative Genomics Tools in GMO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772400" y="6437160"/>
            <a:ext cx="12952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PhenixAmerican"/>
              </a:rPr>
              <a:t>Got geno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46520" y="601560"/>
            <a:ext cx="1377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GMOD U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m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-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iferG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zeG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eGe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y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ine Geno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n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hundreds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GMOD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Brow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p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Browse_sy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gat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pres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M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row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6491160"/>
            <a:ext cx="34290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gmod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00200" y="6049800"/>
            <a:ext cx="7315200" cy="304920"/>
          </a:xfrm>
          <a:prstGeom prst="rect">
            <a:avLst/>
          </a:prstGeom>
          <a:solidFill>
            <a:srgbClr val="efef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11560" y="6064200"/>
            <a:ext cx="4524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at least 15 other talks and 19 more posters by GMOD use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535240" y="600300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8600" y="5977080"/>
            <a:ext cx="990720" cy="7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7:30:39Z</dcterms:created>
  <dc:creator>GMOD / NESCent</dc:creator>
  <dc:description/>
  <dc:language>en-US</dc:language>
  <cp:lastModifiedBy>GMOD / NESCent</cp:lastModifiedBy>
  <cp:lastPrinted>2010-01-05T19:43:23Z</cp:lastPrinted>
  <dcterms:modified xsi:type="dcterms:W3CDTF">2010-01-05T19:48:47Z</dcterms:modified>
  <cp:revision>28</cp:revision>
  <dc:subject/>
  <dc:title>PowerPoint Presentation</dc:title>
</cp:coreProperties>
</file>